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0F6-C798-4509-901D-86E619B9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966B-A2F6-4BD0-A623-E05EBDFF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F94-51D6-4E26-81E8-F73933AB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3BB9-9403-477F-9244-DA8667903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D41-DA0E-4BF3-9C09-6F9D12D0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E55B-8313-4F32-88F4-832903B9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842-6B45-43B2-B263-6DF863AF1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C04-9F1A-42CE-8556-45E9FBC0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C07E-954E-4178-852E-D15DCA872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63C-BCE9-4572-AA56-772243A8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5F3F-8CE8-4648-AA19-1D827058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CD2A-DC2A-495D-AF7B-B55FCBA4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B9B4-662B-4C45-B70E-3BDCAE12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B05-2623-4DD2-8B48-60267A87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33A5-B91A-4CA7-8334-92B120E8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4A0-A4EE-4469-ACF1-3B995F19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BDA-D69B-4E6B-9F2C-E5599D3B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B0E-5E0C-4266-B556-EB740DB1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C9A-4125-46BB-947C-F3601C3C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5C6-1474-45EA-B567-F559FEB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452-3397-471E-AC90-3E433348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087-F49A-4C0E-A437-F19E131D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4AD-A112-4CE8-81CC-7DAAB438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0D4-F1E0-4C4A-A2A1-DAB5DDCA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F64-3313-4E04-8D0C-C9A57F9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036-9BCC-4F6B-B602-30E2C5F5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FCB-9BEB-4E00-9054-C0D4319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B56-55FF-4728-9BF5-9C509028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FRI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alogies to Make 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ies can help us make inferences about things that are less familiar.  This is often the way we learn new inform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ample: Imagine you were trying to explain to a child why watering a plant too much is bad.  The child takes care of her dog everyday.  You might choose to use an analogy to the dog to explain the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f you feed the dog too much, the dog will get sic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ikewise, if you water the plant too much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95152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ference can help the child learn about taking care of plants from her existing knowledge about taking care of a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baseb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: your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hrows the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thrown/hit/ca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tart, score, fi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Judges play, 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the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oundaries of g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5486400" y="2895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laternitehawks.com/images/baseball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baseball1.jpg"/>
          <p:cNvPicPr/>
          <p:nvPr/>
        </p:nvPicPr>
        <p:blipFill>
          <a:blip r:embed="rId1"/>
          <a:stretch/>
        </p:blipFill>
        <p:spPr>
          <a:xfrm>
            <a:off x="5486400" y="457200"/>
            <a:ext cx="36576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baseb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hrows/Catches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thrown, Gets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unners head to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83" name="TextBox 5"/>
          <p:cNvSpPr/>
          <p:nvPr/>
        </p:nvSpPr>
        <p:spPr>
          <a:xfrm>
            <a:off x="5486400" y="2895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laternitehawks.com/images/baseball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baseball1.jpg"/>
          <p:cNvPicPr/>
          <p:nvPr/>
        </p:nvPicPr>
        <p:blipFill>
          <a:blip r:embed="rId1"/>
          <a:stretch/>
        </p:blipFill>
        <p:spPr>
          <a:xfrm>
            <a:off x="5486400" y="457200"/>
            <a:ext cx="36576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hoc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core, where the goalie def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here the game is pla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ef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the 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88" name="TextBox 5"/>
          <p:cNvSpPr/>
          <p:nvPr/>
        </p:nvSpPr>
        <p:spPr>
          <a:xfrm>
            <a:off x="5486400" y="28954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ultimedia.detnews.com/pix/3d/b6/fa/8e/73/6f/20100220181054_06-MSU-Hockey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hockey.jpg"/>
          <p:cNvPicPr/>
          <p:nvPr/>
        </p:nvPicPr>
        <p:blipFill>
          <a:blip r:embed="rId1"/>
          <a:stretch/>
        </p:blipFill>
        <p:spPr>
          <a:xfrm>
            <a:off x="5243400" y="457200"/>
            <a:ext cx="3900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hoc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yers move puck tow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es/Shoots 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93" name="TextBox 5"/>
          <p:cNvSpPr/>
          <p:nvPr/>
        </p:nvSpPr>
        <p:spPr>
          <a:xfrm>
            <a:off x="5486400" y="28954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ultimedia.detnews.com/pix/3d/b6/fa/8e/73/6f/20100220181054_06-MSU-Hockey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hockey.jpg"/>
          <p:cNvPicPr/>
          <p:nvPr/>
        </p:nvPicPr>
        <p:blipFill>
          <a:blip r:embed="rId1"/>
          <a:stretch/>
        </p:blipFill>
        <p:spPr>
          <a:xfrm>
            <a:off x="5243400" y="457200"/>
            <a:ext cx="3900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Baseball and Hockey</a:t>
            </a:r>
            <a:br>
              <a:rPr sz="2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’s really no comparison…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baseball that correspond (or match) to features of hockey.  Identify the common role of each fea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320" y="2286000"/>
          <a:ext cx="8991360" cy="454176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 hit, ca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 ball/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coring occurs 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th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me occurs 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revents scoring; both stop play, both ca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Baseball and Hockey</a:t>
            </a:r>
            <a:br>
              <a:rPr sz="2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’s really no comparison…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baseball that correspond (or match) to features of hockey.  Identify the common role of each fea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320" y="2286000"/>
          <a:ext cx="8991360" cy="405432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imed 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/throw ball/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se roles are well lined up.  What are the differences between some of the features of baseball and hocke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320" y="2286000"/>
          <a:ext cx="8991360" cy="402912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se roles are well lined up.  What are the differences between some of the features of baseball and hocke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320" y="2286000"/>
          <a:ext cx="8991360" cy="404028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t shape, one slides on ice, other moves in 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t shape, one is held up the other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yers move toward home, puck moves toward 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er throws ball at beginning of play, Goalie shoots puck at end of p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we know that the PITCHER is the most important position on a winning baseball team, what can we infer about hocke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3809880"/>
          <a:ext cx="7620120" cy="2622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31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 h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imed 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 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/throw ball/p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110" name="Oval 5"/>
          <p:cNvSpPr/>
          <p:nvPr/>
        </p:nvSpPr>
        <p:spPr>
          <a:xfrm>
            <a:off x="762120" y="5715000"/>
            <a:ext cx="487656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 Orga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First, we would like you to complete a questionnai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o…find someone with a FOLDER. Get into groups of F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name on the inside cover of the folder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Student ID if you have it (bring it next time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ZE THE FOLDER NUMBER!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Begin the “Analogy Assessment” when we tell you to star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Introdu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Introductory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efine ana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nterpret basic analogies to identify the common roles of related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Provide an example of an inferences based on an ana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you seen a question like this befo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UMB : B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ounce :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splinter :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water : bu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twine : 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 cream : bu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"/>
          <p:cNvSpPr/>
          <p:nvPr/>
        </p:nvSpPr>
        <p:spPr>
          <a:xfrm>
            <a:off x="3048120" y="3124080"/>
            <a:ext cx="30477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nalogy is when you can line up two examples so that the same relations apply in each. An analogy lets you transfer information from one subject to another su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odyguard : Celebrity  ::  Force-field : Space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4808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 this case, the bodyguar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ec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the celebrity in the same way that a force-fiel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ec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a space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nalog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ies can be visual, to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80880" y="51814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 this case, the first object has a larger object in between two smaller objects. Therefore, the box on the left is the best analogy because it contains the same relationship between its objects as the “standar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o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28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instead of a rule, like the size and position of objects, there is a role that a particular object plays in a situ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pic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at role does the car play in the first picture?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ich object plays the same role in the second picture?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en two objects share the same role, we say that they are analogous.  Which two objects are analogous?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68" name="P 1" descr="MarkmanGentner1993.tiff"/>
          <p:cNvPicPr/>
          <p:nvPr/>
        </p:nvPicPr>
        <p:blipFill>
          <a:blip r:embed="rId1"/>
          <a:stretch/>
        </p:blipFill>
        <p:spPr>
          <a:xfrm>
            <a:off x="5410080" y="12193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o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228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instead of a rule, like the size and position of objects, there is a role that a particular object plays in a situ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pic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at role does the car play in the first picture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ing pulled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ich object plays the same role in the second picture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boat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en two objects share the same role, we say that they are analogous.  Which two objects are analogous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car and the boat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71" name="P 1" descr="MarkmanGentner1993.tiff"/>
          <p:cNvPicPr/>
          <p:nvPr/>
        </p:nvPicPr>
        <p:blipFill>
          <a:blip r:embed="rId1"/>
          <a:stretch/>
        </p:blipFill>
        <p:spPr>
          <a:xfrm>
            <a:off x="5410080" y="12193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0:41:16Z</dcterms:created>
  <dc:creator>Julie Libarkin</dc:creator>
  <dc:description/>
  <dc:language>en-US</dc:language>
  <cp:lastModifiedBy>Nicole LaDue</cp:lastModifiedBy>
  <dcterms:modified xsi:type="dcterms:W3CDTF">2011-01-13T21:33:31Z</dcterms:modified>
  <cp:revision>317</cp:revision>
  <dc:subject/>
  <dc:title>PowerPoint Presentation</dc:title>
</cp:coreProperties>
</file>